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7.wmf" ContentType="image/x-wmf"/>
  <Override PartName="/ppt/media/image40.png" ContentType="image/png"/>
  <Override PartName="/ppt/media/image58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9.png" ContentType="image/png"/>
  <Override PartName="/ppt/media/image42.wmf" ContentType="image/x-wmf"/>
  <Override PartName="/ppt/media/image39.png" ContentType="image/png"/>
  <Override PartName="/ppt/media/image41.png" ContentType="image/png"/>
  <Override PartName="/ppt/media/image50.png" ContentType="image/png"/>
  <Override PartName="/ppt/media/image52.wmf" ContentType="image/x-wmf"/>
  <Override PartName="/ppt/media/image34.wmf" ContentType="image/x-wmf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D64-4A1E-45F2-8D2C-98396DA1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FE0-0069-45A3-9F71-BD6267F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E2E-E42B-43F7-824B-BFB2BF17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79A-CA6D-48A9-B34C-73ADA5A9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3AD-00CD-4E01-953E-E9CB948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582-3276-4F6C-A125-8B69D82D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513-E873-4478-86D8-BCD8A9D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192-A72E-4A1F-BCA0-84C1C9F3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F0A-A7B2-43B4-8505-BF9BBD2C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29-0CA3-42A0-AB23-B152CB7B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8D0-7341-4E0E-AC01-A8E54C0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A73-74F3-42DC-BB63-7B733751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A5C-9E69-4137-84ED-902738D9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wmf"/><Relationship Id="rId3" Type="http://schemas.openxmlformats.org/officeDocument/2006/relationships/image" Target="../media/image20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5.wmf"/><Relationship Id="rId3" Type="http://schemas.openxmlformats.org/officeDocument/2006/relationships/image" Target="../media/image42.wmf"/><Relationship Id="rId4" Type="http://schemas.openxmlformats.org/officeDocument/2006/relationships/image" Target="../media/image20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image" Target="../media/image25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1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Logistic Regression 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31080" y="457200"/>
            <a:ext cx="6041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ENERAL LOGI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962520"/>
            <a:ext cx="7696080" cy="163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form of logistic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34320" y="2819520"/>
            <a:ext cx="4539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6477120" cy="83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16292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6200" y="4191120"/>
            <a:ext cx="1948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t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769608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019920" cy="193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1629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57150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37920" y="495288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09680" y="5410080"/>
            <a:ext cx="4480200" cy="76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3276720"/>
            <a:ext cx="601992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640" y="457200"/>
            <a:ext cx="522504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W LOGISTIC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76520"/>
            <a:ext cx="8458200" cy="69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98280" y="2743200"/>
            <a:ext cx="5516280" cy="39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(0, 1)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dummy variables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atching 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confounders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matching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enote potential effect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other than matching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2666880"/>
            <a:ext cx="5486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09680"/>
            <a:ext cx="739152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8520" y="547560"/>
            <a:ext cx="591696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ed OR Comparing E=1 vs. 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for the V’s and W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4720" y="4145040"/>
            <a:ext cx="6828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ase: No Interaction, I.e., 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70572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0200" y="4635360"/>
            <a:ext cx="6550200" cy="109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181480" cy="84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2209680"/>
            <a:ext cx="7391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7320" y="2338560"/>
            <a:ext cx="6883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25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15200" cy="1067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4290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467480" cy="106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1828800"/>
            <a:ext cx="573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696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3124080"/>
            <a:ext cx="426708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22096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5000" y="3352680"/>
            <a:ext cx="792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449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3657600"/>
            <a:ext cx="518148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708660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19720" y="274320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620120" cy="426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9528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680" y="99072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53320" y="5334120"/>
            <a:ext cx="6089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62 dummy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63 matched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3733920"/>
            <a:ext cx="533520" cy="113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5791320" cy="78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5790960" cy="711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105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66880" y="914400"/>
            <a:ext cx="533412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5790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72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143000" y="10666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94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162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238880" cy="4343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33376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438280" y="5638680"/>
            <a:ext cx="3886200" cy="5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057400" y="4876920"/>
            <a:ext cx="4343400" cy="768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1066680"/>
            <a:ext cx="533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162560" cy="1412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981080" y="457200"/>
            <a:ext cx="533412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905120" y="3200400"/>
            <a:ext cx="4724280" cy="84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14600" y="403848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086600" cy="184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01992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295280" y="838080"/>
            <a:ext cx="6400800" cy="80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5120" y="2590920"/>
            <a:ext cx="487656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514600" y="2819520"/>
            <a:ext cx="33526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6760" y="1233360"/>
            <a:ext cx="67658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ION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3 matched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70280" y="380880"/>
            <a:ext cx="75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Previous model was a no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6390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880" y="2590920"/>
            <a:ext cx="9095760" cy="63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 +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GAL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8000" y="2362320"/>
            <a:ext cx="4093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914400"/>
            <a:ext cx="55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5% CI for OR involving inter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0680" y="2529000"/>
            <a:ext cx="47401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, What is the 95% CI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153280" y="3505320"/>
            <a:ext cx="60984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629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380880"/>
            <a:ext cx="75096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L 100(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 CI FORMULA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STIC MODEL FOR MATCHED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5943600" cy="50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571500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7086600" cy="111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705720" y="213372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58600" y="471600"/>
            <a:ext cx="40122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NC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162920" y="1752480"/>
            <a:ext cx="53316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3657600"/>
            <a:ext cx="45720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105520"/>
            <a:ext cx="38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105520"/>
            <a:ext cx="38088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105520"/>
            <a:ext cx="533520" cy="48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65640" y="65818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4648320"/>
            <a:ext cx="3574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11480" y="5562720"/>
            <a:ext cx="4626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6200" y="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95% CI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33412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6629400" cy="1067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53337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678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09480"/>
            <a:ext cx="7391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90720" y="5335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7:08:35Z</dcterms:modified>
  <cp:revision>97</cp:revision>
  <dc:subject/>
  <dc:title>The Art in the State of the Art</dc:title>
</cp:coreProperties>
</file>